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3BBE-3AB8-4A41-8A40-8673EE76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DD6-B36C-4805-94DD-EA0D01E6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2DB-5AB1-4CAF-A959-1BAF85EA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20B-9CAF-4B27-9D87-CD1BCE79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9A7-167E-4314-9FE7-EBD70D74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269-2302-4760-9763-9D20925D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C905-85ED-49CC-95E1-11D734E3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0F7-F9B7-47EF-8C50-C653B049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EBF-4C90-44DF-8906-6303DC17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442-A021-4902-85E6-B3BB6F4C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7BBC-F138-4F99-A0AC-458B76AD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04C8-A260-412D-8EDD-19193D90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867D-EDA6-4E72-8EA5-D6F6CBF5E1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80880" y="3495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80880" y="25146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60948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80880" y="159084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133720" y="4572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 W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ater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and M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nerals 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133720" y="161928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hotosynthesi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2133720" y="2610000"/>
            <a:ext cx="419076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eproduction</a:t>
            </a: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133720" y="35845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</a:t>
            </a:r>
            <a:r>
              <a:rPr b="0" lang="pl-PL" sz="1000" spc="-1" strike="noStrike">
                <a:solidFill>
                  <a:srgbClr val="000000"/>
                </a:solidFill>
                <a:latin typeface="Segoe UI"/>
                <a:ea typeface="Segoe UI"/>
              </a:rPr>
              <a:t>igh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380880" y="7915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Roo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80880" y="693432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Lea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4"/>
          <p:cNvSpPr/>
          <p:nvPr/>
        </p:nvSpPr>
        <p:spPr>
          <a:xfrm>
            <a:off x="380880" y="5029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Fl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80880" y="6010200"/>
            <a:ext cx="12956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2133720" y="487692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ese take in W………………………….. and M…………………………….. from the soil.  They also anchor the plant into the grou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133720" y="603900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the plant makes its food by the process of  P………………………………………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2133720" y="702936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is where   R………………………………………. takes place and seeds are m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133720" y="8004240"/>
            <a:ext cx="419076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egoe UI"/>
                <a:ea typeface="Segoe UI"/>
              </a:rPr>
              <a:t>This transports food and water around the plant.  It also holds the leaves up to face the L…………………………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Łącznik prosty ze strzałką 18"/>
          <p:cNvCxnSpPr>
            <a:stCxn id="43" idx="3"/>
            <a:endCxn id="47" idx="1"/>
          </p:cNvCxnSpPr>
          <p:nvPr/>
        </p:nvCxnSpPr>
        <p:spPr>
          <a:xfrm>
            <a:off x="1676520" y="732600"/>
            <a:ext cx="457560" cy="20008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8" name="Łącznik prosty ze strzałką 20"/>
          <p:cNvCxnSpPr/>
          <p:nvPr/>
        </p:nvCxnSpPr>
        <p:spPr>
          <a:xfrm>
            <a:off x="1641960" y="2000160"/>
            <a:ext cx="500760" cy="18583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59" name="Łącznik prosty ze strzałką 22"/>
          <p:cNvCxnSpPr>
            <a:endCxn id="46" idx="1"/>
          </p:cNvCxnSpPr>
          <p:nvPr/>
        </p:nvCxnSpPr>
        <p:spPr>
          <a:xfrm flipV="1">
            <a:off x="1642680" y="1818360"/>
            <a:ext cx="491400" cy="103968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60" name="Łącznik prosty ze strzałką 24"/>
          <p:cNvCxnSpPr>
            <a:stCxn id="41" idx="3"/>
          </p:cNvCxnSpPr>
          <p:nvPr/>
        </p:nvCxnSpPr>
        <p:spPr>
          <a:xfrm flipV="1">
            <a:off x="1676520" y="785160"/>
            <a:ext cx="396000" cy="2833920"/>
          </a:xfrm>
          <a:prstGeom prst="straightConnector1">
            <a:avLst/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1:22:13Z</dcterms:created>
  <dc:creator>Gemma Young</dc:creator>
  <dc:description/>
  <dc:language>en-US</dc:language>
  <cp:lastModifiedBy>oskar jaskiewicz</cp:lastModifiedBy>
  <dcterms:modified xsi:type="dcterms:W3CDTF">2014-08-20T06:35:57Z</dcterms:modified>
  <cp:revision>5</cp:revision>
  <dc:subject/>
  <dc:title>PowerPoint Presentation</dc:title>
</cp:coreProperties>
</file>